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3E0DA-5059-460D-B00F-DE14EA10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69338-E857-4892-9775-B5942A1A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6C3F2-BC43-43B1-8F39-D060911E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96861-7AE2-4D4B-9FCA-405143B8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4D54-3F5C-4F66-B2DE-AF3E0CF1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8042-5FFB-4236-8D2A-80C9C52B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1C42-FC2C-42C3-A592-CE0B0EB9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FEC1-5C82-4EAA-BAFA-71E05E7E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764C-922F-4FC6-946F-1A3EA414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C12D-07C5-4F4C-BE74-8DAFE63F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05D9-8C98-4653-817A-0D8088CE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38E1B-FC4D-4C11-A3D0-E617A90D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DEBB-1D1F-43DF-8E54-086AC116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CA94-55E3-4306-B47B-ADD38B7E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373D-0943-4B9A-9306-83FC4934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D3A5-F70B-42C4-AEBE-36DE4C4E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43BE-5BA6-4DA7-9F9F-6FEA33B6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7631C-C008-4756-B56E-68FBEC78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E4078-1D8C-46F5-B257-FE737609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4B07F-3DB9-4B54-92AC-FA45C70F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FC6EF-7361-4737-9E65-87C9DCA8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D0000-E53E-42DA-9AD5-5D2B4624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C8D84-BE28-4C0C-A5C7-AE7E2D8E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91FDE-FA4E-4203-858A-1104A444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B025-C927-4188-AA5C-4862FE54F16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306B-9D9E-470A-8211-FBDFBF21D3A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691640"/>
            <a:ext cx="11131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57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89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вала Теб, мой мил Спасител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е на кръст за мен умря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стана ми Изкупител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ъм Твой, о, мил Христ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1362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вала Теб, мой Изкупител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е умря за мен на кръс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стана ми Избавите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греха, от смърт и пръс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631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бе, Господи, аз служ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 ми, и с небесний хляб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храни ме - тъй без гриж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свидетелствам за Теб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1362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вала Теб, мой Изкупител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е умря за мен на кръс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стана ми Избавите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греха, от смърт и пръс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2631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предаде Си живот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къпа кръв проля за мен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Жертвата Ти на Голгот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чно прави ме блаж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21362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вала Теб, мой Изкупител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е умря за мен на кръс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стана ми Избавите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греха, от смърт и пръс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24T15:55:55Z</dcterms:modified>
  <cp:revision>45</cp:revision>
  <dc:subject/>
  <dc:title>Slide 1</dc:title>
</cp:coreProperties>
</file>